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EB6A-9EEF-4265-9F9E-A8EC97326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D03C-9164-4377-ADBF-2C6188FCB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ndianapublicmedia.org/amomentofscience/the-truth-about-phototropis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6C3F-E2B3-432D-B0E4-409BFDBB4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5AF1-AC4A-4600-B613-E0FA436EC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covermagazine.com/2003/jan/botany#.Ua6dzBzsSj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 plant on right genetically engineered to produce more cytokin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555A-E8A5-4C1B-8EFF-83F9AA7C3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46AB-12A1-451A-97B4-9F54F3B32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sci.ohio-state.edu/~plantbio/osu_pcmb/pcmb_lab_resources/pcmb101_activities/hormones/plnt_grth_hrmns_fruit_rip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3E28-3D01-4D36-8AD5-B63E8DCFA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vironmentplants.blogspot.c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4C02-D00E-46DA-B587-5CE7ADDDB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163.16.28.248/bio/activelearner/36/ch36c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2252-8256-423C-B858-77B1AC8B5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reparetobeamazed.blogspot.ca/2011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326E-BA90-47C2-B8B3-09FD42CC3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en.wikipedia.org/wiki/Thigmotrop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CE76-7D10-4BBA-A94D-2DE6227F4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2BAF-082A-4882-9B56-38FBA930F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mblr.com/tagged/auxins?language=fr_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28EE-F374-4DC3-A216-97398B605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D122-8C61-43FD-BC81-7E90081B9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5e.plantphys.net/article.php?ch=0&amp;id=3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44B-D75E-44BE-97C7-9F122F15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051-B092-4333-BF0B-86752358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27E-C6EC-4D39-AAEB-C451D602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0EA-6BCD-49D4-A123-23E93DF5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247-D9B9-41F7-A094-78BDFA35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098-1F69-4B37-AFFE-52372BD3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0F42-F0AF-442C-A319-6D7A4797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D89E-DFF7-444C-AC45-1318D332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9DBB-BB22-4792-B89A-58E23C98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EC76-00F4-43D2-BEBF-88B05604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9D9-9DB3-45AE-A68D-8C409DDD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6FB-3D2A-4C07-9106-C87EDE5D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0620-03E1-4897-B71C-A33C82CB6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rol of Plant Growth &amp;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ki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growing tissues such as meristems, young leaves, growing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cell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ayed on mushrooms &amp; lettuce to prevent spo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bot_tobacco"/>
          <p:cNvPicPr/>
          <p:nvPr/>
        </p:nvPicPr>
        <p:blipFill>
          <a:blip r:embed="rId1"/>
          <a:stretch/>
        </p:blipFill>
        <p:spPr>
          <a:xfrm>
            <a:off x="3127320" y="609480"/>
            <a:ext cx="2887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yl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that is produced at various stages of plant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stress hormo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timulates fruit ripening, and many other developmental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ylene levels controlled so that fruit is ripe when sold at the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fruit_ripe"/>
          <p:cNvPicPr/>
          <p:nvPr/>
        </p:nvPicPr>
        <p:blipFill>
          <a:blip r:embed="rId1"/>
          <a:stretch/>
        </p:blipFill>
        <p:spPr>
          <a:xfrm>
            <a:off x="685800" y="844560"/>
            <a:ext cx="77724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cisic Acid (AB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its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s dormancy in seeds and leaf b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rise in response to temperature &amp; light changes (e.g., seasonal 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used on plants that are being sh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the growth of a plant in response to a stim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2081938105_3cb639bea5"/>
          <p:cNvPicPr/>
          <p:nvPr/>
        </p:nvPicPr>
        <p:blipFill>
          <a:blip r:embed="rId1"/>
          <a:stretch/>
        </p:blipFill>
        <p:spPr>
          <a:xfrm>
            <a:off x="1893960" y="3124080"/>
            <a:ext cx="528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h36c2"/>
          <p:cNvPicPr/>
          <p:nvPr/>
        </p:nvPicPr>
        <p:blipFill>
          <a:blip r:embed="rId1"/>
          <a:stretch/>
        </p:blipFill>
        <p:spPr>
          <a:xfrm>
            <a:off x="2087640" y="1981080"/>
            <a:ext cx="496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0038195-Gravitropism_(Geotropism)-SPL"/>
          <p:cNvPicPr/>
          <p:nvPr/>
        </p:nvPicPr>
        <p:blipFill>
          <a:blip r:embed="rId1"/>
          <a:stretch/>
        </p:blipFill>
        <p:spPr>
          <a:xfrm>
            <a:off x="1606680" y="1981080"/>
            <a:ext cx="592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gmo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220px-Brunnichia_ovata_"/>
          <p:cNvPicPr/>
          <p:nvPr/>
        </p:nvPicPr>
        <p:blipFill>
          <a:blip r:embed="rId1"/>
          <a:stretch/>
        </p:blipFill>
        <p:spPr>
          <a:xfrm>
            <a:off x="2449440" y="1981080"/>
            <a:ext cx="424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Growth Reg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x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cell 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o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 sid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using phototrop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primarily in shoot apical meristem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in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tumblr_m3lh4aTFK61rvu0g4o1_250"/>
          <p:cNvPicPr/>
          <p:nvPr/>
        </p:nvPicPr>
        <p:blipFill>
          <a:blip r:embed="rId1"/>
          <a:stretch/>
        </p:blipFill>
        <p:spPr>
          <a:xfrm>
            <a:off x="4168800" y="2133720"/>
            <a:ext cx="459432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berell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s cell division &amp; elon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s role in flowering &amp; fruit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bberellin spray induces fruit production &amp; elongates fruit stems in gr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wt2002b_s"/>
          <p:cNvPicPr/>
          <p:nvPr/>
        </p:nvPicPr>
        <p:blipFill>
          <a:blip r:embed="rId1"/>
          <a:stretch/>
        </p:blipFill>
        <p:spPr>
          <a:xfrm>
            <a:off x="685800" y="749160"/>
            <a:ext cx="777240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01:39:58Z</dcterms:created>
  <dc:creator>rubina khan</dc:creator>
  <dc:description/>
  <dc:language>en-US</dc:language>
  <cp:lastModifiedBy>rubina khan</cp:lastModifiedBy>
  <dcterms:modified xsi:type="dcterms:W3CDTF">2016-11-30T13:32:24Z</dcterms:modified>
  <cp:revision>42</cp:revision>
  <dc:subject/>
  <dc:title>Plant Growth</dc:title>
</cp:coreProperties>
</file>